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0FA-F087-48B2-9C70-E5B45E75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42B-9C71-4B24-A000-68093D0A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C1E-02CB-4DF5-8611-1F885E92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4F1-C4D0-43C9-883B-374C4710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21A-EE8D-46F5-AD06-E42142A8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441-B258-4B6C-A8ED-640F776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181-967B-40EC-B16F-F7C66D3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6C1-5C28-41AE-8148-A1C47A6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09D-F83F-4AFC-BA48-D835A57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D2F-43AC-4DE7-A6AF-2E839451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484-82D4-4DC2-AA1C-5F7ECE9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36C-BB12-459E-90B3-4D8FF73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A7FC-4BC2-4BA2-91C7-E240388D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VdQ9PK9Q5o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garian Uprising 19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CSE 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how Stalin controlled Ea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y there was opposition to Soviet Control of Hungary 19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how the Hungarians showed their dis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reaction of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Read pages 397 to 401 of our tex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n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talin controlled Eastern Europe and why there seemed to be an opportunity to criticise the Sovi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2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ngarian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sheets and pages 402 and 403 of your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oints to the diagram using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N The 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4941720"/>
            <a:ext cx="554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Berlin Sans FB"/>
                <a:hlinkClick r:id="rId1"/>
              </a:rPr>
              <a:t>Hungarian Revolt 19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48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following video carefully. Make notes which answer today’s main 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2707920"/>
            <a:ext cx="5338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why there was opposition to Soviet Control of Hungary 19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how the Hungarians showed their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eaction of the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 final draft of the diagram online, save and print before next lesson. Add information from these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johndclare.net/cold_war1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ws.bbc.co.uk/onthisday/hi/dates/stories/october/23/newsid_3140000/3140400.s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partacus.schoolnet.co.uk/COLDhungarianU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choolhistory.co.uk/lessons/coldwar/coldwar_hungar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minder : History coursework due 4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1:05:50Z</dcterms:created>
  <dc:creator>rachel.harris</dc:creator>
  <dc:description/>
  <dc:language>en-US</dc:language>
  <cp:lastModifiedBy>rachel.harris</cp:lastModifiedBy>
  <dcterms:modified xsi:type="dcterms:W3CDTF">2011-02-11T02:28:11Z</dcterms:modified>
  <cp:revision>3</cp:revision>
  <dc:subject/>
  <dc:title>The Hungarian Uprising 1956</dc:title>
</cp:coreProperties>
</file>